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gif" ContentType="image/gif"/>
  <Override PartName="/ppt/media/image5.jpeg" ContentType="image/jpeg"/>
  <Override PartName="/ppt/media/image6.gif" ContentType="image/gif"/>
  <Override PartName="/ppt/media/image10.jpeg" ContentType="image/jpeg"/>
  <Override PartName="/ppt/media/image7.gif" ContentType="image/gif"/>
  <Override PartName="/ppt/media/image8.wmf" ContentType="image/x-wmf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ADF1A-B7D5-42CC-A8F2-1C6903ED27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9AACF-4666-40A7-8E6F-DED7A43DA57F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C007-1292-4AE6-841D-052455739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08F8-51C7-4AA3-A254-21F822BDE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06F9-EC6D-4EFB-9FDA-8156BE738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24ED-3210-4B14-95C2-20D873CCA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7F6F6-A520-4796-A071-751976B70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A3553-58F1-469F-980A-29219CB3C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7E795-CD71-408A-9798-9345319E4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9494E-1E6F-4C5F-A438-A6C3804A9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9DCE2-0A53-43A1-B96E-5F3C86641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B014D-0000-4B55-98AE-F22686D37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6D080-C25A-4317-AF63-ABBB0C1CB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47EE-8F9F-48BA-9FBB-BD36D9B9A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0AEA2-75B1-401B-9285-249C85A01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52109-6392-4503-A915-5C6B8B5D6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8582A-5780-4476-B3A7-194ED3E5D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78809-82CE-40C2-92D7-A3E5EF4A9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56A9D-AB91-46E1-8DBC-C250113AC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BB4D0A-782A-4E89-87B8-39F510C02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BC86CE-8DC0-4585-B6F9-169D6BEE9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0F07A4-0D3D-47A1-9DB6-9C2B9CE4C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5650B0-6331-4879-91DD-4BDFF7E0C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AA9D26-1AE3-43F2-B494-314AB8C44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08E6-1C36-4E78-A5DF-E44011660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2729D9-FECA-47C6-8CDD-CEDD33EFF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42EAB2-C177-4671-B661-02D64AD0A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A9075D-6BA0-42F3-832A-648436EF6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293DEF-1419-4351-9685-77BFF02D8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067C5D-5D34-4574-A4B9-58A3C491F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381DF0-9E13-4F84-9499-8DB829AD1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9AD6C9-34CC-4B91-9CE2-26BC776D6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AB44-1FFC-418B-BDD7-86193A7AD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6183-3DAD-49E4-9592-94B1C63FE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2552-CB51-4FE2-A417-451737A4A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1BD8-EC20-4177-A491-EA1DBB18C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F193-869D-4FDB-BFB0-DD64522A5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E237-09B0-482A-9403-9CF634188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DE28F-2C0A-4903-A6C4-7948E76B1E56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4D641-722E-44A2-8738-D7DEF000E21E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ED715-1461-4A53-8004-D10B4F3803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dhslmc.blogspot.com/" TargetMode="External"/><Relationship Id="rId2" Type="http://schemas.openxmlformats.org/officeDocument/2006/relationships/hyperlink" Target="http://www.mabryonline.org/blogs/media/" TargetMode="External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sto.kcsdschools.com/blogs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_M_336pDWoM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k-8DRPCJ86U&amp;feature=related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NN2I1pWXjXI" TargetMode="Externa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53352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Richmond County School’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2009 Cyber Academ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066680" y="533520"/>
            <a:ext cx="66294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WELCOME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logging Platform???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2286000" y="2332080"/>
            <a:ext cx="5029200" cy="452592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 rot="19344000">
            <a:off x="6714720" y="269640"/>
            <a:ext cx="1600200" cy="12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asons for Educational Blog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837720" y="2666880"/>
            <a:ext cx="377028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llaborat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mmunicat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mpa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iscus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xplai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magin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723920" y="251424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bserve and Lo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ersuad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edic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oblem Solv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Ques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member and Reflec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62120" y="5638680"/>
            <a:ext cx="8381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Highly Effective Way for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Students to become Better Writer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From YOU TUBE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10 Reasons for Blogging in Classroom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Literac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Engage Audien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Interactiv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Multi-Learner Typ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Promotes ESL Interac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Electronic Agend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Distance Agend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Learner Communiti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Technology in the Classroo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Environmentally Conscien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eachers Blog…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eflect on teaching experiences/log/descrip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eaching tip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hare activiti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How to’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xplore teaching/learn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ost class informa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mmunicate with paren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ost writing promp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n-line reading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ost  class photograph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edia Center Blogs…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reate a literature circ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reate online book club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nvite student comments on a character/autho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Link with another class somewhere in the worl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pdate on Book Fair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ew book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eature a magazin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ul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oject Updat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5181480" y="533520"/>
            <a:ext cx="182880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dia Center Blog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838080" y="1143000"/>
            <a:ext cx="769320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dhslmc.blogspot.com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ia Ce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st Middle School - Blogs|Media Ce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HS Media Ce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Unquiet Libr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867280" y="4038480"/>
            <a:ext cx="1857600" cy="13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2743200" y="1981080"/>
            <a:ext cx="4000680" cy="330696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CHAL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xamples… BLOG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9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90920" y="3048120"/>
            <a:ext cx="50799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6666"/>
                </a:solidFill>
                <a:latin typeface="Arial"/>
              </a:rPr>
              <a:t>RESOURCES</a:t>
            </a:r>
            <a:endParaRPr b="1" lang="en-US" sz="6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ttp://www.learn2echalk.com/www/academy/images/%7BBDF419E4-E25D-4949-8A35-192D58E2566A%7D/eChalkPower.jp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304812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YouTube - Pay Atten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3505320" y="1752480"/>
            <a:ext cx="32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Web 2.0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Text Box 5"/>
          <p:cNvSpPr/>
          <p:nvPr/>
        </p:nvSpPr>
        <p:spPr>
          <a:xfrm rot="2513400">
            <a:off x="5942880" y="426672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mp</a:t>
            </a: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6477120" y="58672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Blogging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Text Box 7"/>
          <p:cNvSpPr/>
          <p:nvPr/>
        </p:nvSpPr>
        <p:spPr>
          <a:xfrm rot="19066200">
            <a:off x="308880" y="1674720"/>
            <a:ext cx="231768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iki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Text Box 8"/>
          <p:cNvSpPr/>
          <p:nvPr/>
        </p:nvSpPr>
        <p:spPr>
          <a:xfrm rot="1457400">
            <a:off x="0" y="380952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KYP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Text Box 9"/>
          <p:cNvSpPr/>
          <p:nvPr/>
        </p:nvSpPr>
        <p:spPr>
          <a:xfrm>
            <a:off x="3276720" y="5562720"/>
            <a:ext cx="274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ocial Network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Text Box 10"/>
          <p:cNvSpPr/>
          <p:nvPr/>
        </p:nvSpPr>
        <p:spPr>
          <a:xfrm>
            <a:off x="6858000" y="24382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66"/>
                </a:solidFill>
                <a:latin typeface="Arial"/>
              </a:rPr>
              <a:t>PODCAST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3" name="Picture 11" descr="podcast2"/>
          <p:cNvPicPr/>
          <p:nvPr/>
        </p:nvPicPr>
        <p:blipFill>
          <a:blip r:embed="rId2"/>
          <a:stretch/>
        </p:blipFill>
        <p:spPr>
          <a:xfrm rot="20791800">
            <a:off x="3809880" y="4038480"/>
            <a:ext cx="1447920" cy="144792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13"/>
          <p:cNvSpPr/>
          <p:nvPr/>
        </p:nvSpPr>
        <p:spPr>
          <a:xfrm rot="19450800">
            <a:off x="6269400" y="4411080"/>
            <a:ext cx="325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9933"/>
                </a:solidFill>
                <a:latin typeface="Arial"/>
              </a:rPr>
              <a:t>Digital Storytell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WordArt 14"/>
          <p:cNvSpPr txBox="1"/>
          <p:nvPr/>
        </p:nvSpPr>
        <p:spPr>
          <a:xfrm>
            <a:off x="1371600" y="304920"/>
            <a:ext cx="708660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Digital Learner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56" name="Text Box 16"/>
          <p:cNvSpPr/>
          <p:nvPr/>
        </p:nvSpPr>
        <p:spPr>
          <a:xfrm>
            <a:off x="1066680" y="48769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Arial"/>
              </a:rPr>
              <a:t>Twitt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Text Box 17"/>
          <p:cNvSpPr/>
          <p:nvPr/>
        </p:nvSpPr>
        <p:spPr>
          <a:xfrm rot="819000">
            <a:off x="227880" y="60199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ff"/>
                </a:solidFill>
                <a:latin typeface="Arial"/>
              </a:rPr>
              <a:t>Audio and Vide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Text Box 18"/>
          <p:cNvSpPr/>
          <p:nvPr/>
        </p:nvSpPr>
        <p:spPr>
          <a:xfrm rot="20208000">
            <a:off x="360" y="22824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66"/>
                </a:solidFill>
                <a:latin typeface="Arial"/>
              </a:rPr>
              <a:t>Flick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828800" y="838080"/>
            <a:ext cx="533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Did you KNOW?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19520" y="2362320"/>
            <a:ext cx="3352680" cy="26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981080" y="0"/>
            <a:ext cx="5319720" cy="666756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6705720" y="655308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66"/>
                </a:solidFill>
                <a:latin typeface="Arial"/>
              </a:rPr>
              <a:t>http://openparachute.files.wordpress.com/2008/05/blog-to-blog.gif</a:t>
            </a:r>
            <a:endParaRPr b="0" lang="en-US" sz="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cc99"/>
                </a:solidFill>
                <a:latin typeface="Arial"/>
              </a:rPr>
              <a:t>Blogging With E-Chalk</a:t>
            </a:r>
            <a:endParaRPr b="0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990720" y="990720"/>
            <a:ext cx="708660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ahoma"/>
              </a:rPr>
              <a:t>BLOGS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ahoma"/>
              <a:ea typeface="Tahoma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838080" y="3581280"/>
            <a:ext cx="236232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YOU TUBE VIDE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YouTube - Blogs in Plain Englis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ERM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log- Web log (N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On-line diary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Log of your thoughts, ideas, useful links, photos, videos, news (Rants, announcements, ponderings)  </a:t>
            </a:r>
            <a:r>
              <a:rPr b="1" i="1" lang="en-US" sz="1600" spc="-1" strike="noStrike">
                <a:solidFill>
                  <a:srgbClr val="ff0000"/>
                </a:solidFill>
                <a:latin typeface="Arial"/>
              </a:rPr>
              <a:t>Express Yourself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Focus on a particular subject: food, politics, new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Post or entry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log- Maintain or add content  (V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logger- One who blog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log Post- Individual artic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LOG BASIC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verse chronological order-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atest story on top of website- others descend beneath i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itle-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eader or subjec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od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mments from read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ost Time and dat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YPES OF BLOG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log- detailed posting (article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odcasting- audio blo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Vlog- video blo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inkBlog- links  (social bookmarking) deliciou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oblog- sending pictures from phon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icroblog- short text message (Twitter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iniblog-using 3</a:t>
            </a:r>
            <a:r>
              <a:rPr b="0" lang="en-US" sz="2400" spc="-1" strike="noStrike" baseline="30000">
                <a:solidFill>
                  <a:srgbClr val="003366"/>
                </a:solidFill>
                <a:latin typeface="Arial"/>
              </a:rPr>
              <a:t>rd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party inf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iveblog-covering live even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4T15:00:15Z</dcterms:created>
  <dc:creator>ElizabethBryant</dc:creator>
  <dc:description/>
  <dc:language>en-US</dc:language>
  <cp:lastModifiedBy>ElizabethBryant</cp:lastModifiedBy>
  <dcterms:modified xsi:type="dcterms:W3CDTF">2009-01-22T19:53:22Z</dcterms:modified>
  <cp:revision>31</cp:revision>
  <dc:subject/>
  <dc:title>Slide 1</dc:title>
</cp:coreProperties>
</file>